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10.xml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10.xml"/><Relationship Id="rId12" Type="http://schemas.openxmlformats.org/officeDocument/2006/relationships/slide" Target="slide16.xml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4.xml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9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6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6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1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3.xml"/><Relationship Id="rId3" Type="http://schemas.openxmlformats.org/officeDocument/2006/relationships/slide" Target="slide36.xml"/><Relationship Id="rId4" Type="http://schemas.openxmlformats.org/officeDocument/2006/relationships/slide" Target="slide1.xml"/><Relationship Id="rId5" Type="http://schemas.openxmlformats.org/officeDocument/2006/relationships/slide" Target="slide31.xml"/><Relationship Id="rId6" Type="http://schemas.openxmlformats.org/officeDocument/2006/relationships/slide" Target="slide34.xml"/><Relationship Id="rId7" Type="http://schemas.openxmlformats.org/officeDocument/2006/relationships/slide" Target="slide35.xml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1.xml"/><Relationship Id="rId5" Type="http://schemas.openxmlformats.org/officeDocument/2006/relationships/slide" Target="slide31.xml"/><Relationship Id="rId6" Type="http://schemas.openxmlformats.org/officeDocument/2006/relationships/slide" Target="slide34.xml"/><Relationship Id="rId7" Type="http://schemas.openxmlformats.org/officeDocument/2006/relationships/slide" Target="slide35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8.xml"/><Relationship Id="rId3" Type="http://schemas.openxmlformats.org/officeDocument/2006/relationships/slide" Target="slide42.xml"/><Relationship Id="rId4" Type="http://schemas.openxmlformats.org/officeDocument/2006/relationships/slide" Target="slide42.xml"/><Relationship Id="rId5" Type="http://schemas.openxmlformats.org/officeDocument/2006/relationships/slide" Target="slide1.xml"/><Relationship Id="rId6" Type="http://schemas.openxmlformats.org/officeDocument/2006/relationships/slide" Target="slide31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7.xml"/><Relationship Id="rId12" Type="http://schemas.openxmlformats.org/officeDocument/2006/relationships/slide" Target="slide37.xml"/><Relationship Id="rId1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39.xml"/><Relationship Id="rId1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" Target="slide1.xml"/><Relationship Id="rId6" Type="http://schemas.openxmlformats.org/officeDocument/2006/relationships/slide" Target="slide31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7.xml"/><Relationship Id="rId12" Type="http://schemas.openxmlformats.org/officeDocument/2006/relationships/slide" Target="slide37.xml"/><Relationship Id="rId13" Type="http://schemas.openxmlformats.org/officeDocument/2006/relationships/slide" Target="slide38.xml"/><Relationship Id="rId14" Type="http://schemas.openxmlformats.org/officeDocument/2006/relationships/slide" Target="slide38.xml"/><Relationship Id="rId15" Type="http://schemas.openxmlformats.org/officeDocument/2006/relationships/slide" Target="slide39.xml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39.xml"/><Relationship Id="rId1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39.xml"/><Relationship Id="rId1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" Target="slide37.xml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" Target="slide45.xml"/><Relationship Id="rId5" Type="http://schemas.openxmlformats.org/officeDocument/2006/relationships/slide" Target="slide45.xml"/><Relationship Id="rId6" Type="http://schemas.openxmlformats.org/officeDocument/2006/relationships/slide" Target="slide1.xml"/><Relationship Id="rId7" Type="http://schemas.openxmlformats.org/officeDocument/2006/relationships/slide" Target="slide31.xml"/><Relationship Id="rId8" Type="http://schemas.openxmlformats.org/officeDocument/2006/relationships/slide" Target="slide34.xml"/><Relationship Id="rId9" Type="http://schemas.openxmlformats.org/officeDocument/2006/relationships/slide" Target="slide35.xml"/><Relationship Id="rId10" Type="http://schemas.openxmlformats.org/officeDocument/2006/relationships/slide" Target="slide43.xml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43.xm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46.xml"/><Relationship Id="rId5" Type="http://schemas.openxmlformats.org/officeDocument/2006/relationships/slide" Target="slide46.xml"/><Relationship Id="rId6" Type="http://schemas.openxmlformats.org/officeDocument/2006/relationships/slide" Target="slide1.xml"/><Relationship Id="rId7" Type="http://schemas.openxmlformats.org/officeDocument/2006/relationships/slide" Target="slide31.xml"/><Relationship Id="rId8" Type="http://schemas.openxmlformats.org/officeDocument/2006/relationships/slide" Target="slide34.xml"/><Relationship Id="rId9" Type="http://schemas.openxmlformats.org/officeDocument/2006/relationships/slide" Target="slide35.xml"/><Relationship Id="rId10" Type="http://schemas.openxmlformats.org/officeDocument/2006/relationships/slide" Target="slide43.xml"/><Relationship Id="rId11" Type="http://schemas.openxmlformats.org/officeDocument/2006/relationships/slide" Target="slide45.xml"/><Relationship Id="rId12" Type="http://schemas.openxmlformats.org/officeDocument/2006/relationships/slide" Target="slide45.xml"/><Relationship Id="rId13" Type="http://schemas.openxmlformats.org/officeDocument/2006/relationships/slide" Target="slide45.xml"/><Relationship Id="rId1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43.xml"/><Relationship Id="rId6" Type="http://schemas.openxmlformats.org/officeDocument/2006/relationships/slide" Target="slide45.xml"/><Relationship Id="rId7" Type="http://schemas.openxmlformats.org/officeDocument/2006/relationships/slide" Target="slide45.xml"/><Relationship Id="rId8" Type="http://schemas.openxmlformats.org/officeDocument/2006/relationships/slide" Target="slide45.xml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8.xml"/><Relationship Id="rId3" Type="http://schemas.openxmlformats.org/officeDocument/2006/relationships/slide" Target="slide1.xml"/><Relationship Id="rId4" Type="http://schemas.openxmlformats.org/officeDocument/2006/relationships/slide" Target="slide31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" Target="slide47.xml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47.xml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1.xml"/><Relationship Id="rId6" Type="http://schemas.openxmlformats.org/officeDocument/2006/relationships/slide" Target="slide51.xml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1.xml"/><Relationship Id="rId6" Type="http://schemas.openxmlformats.org/officeDocument/2006/relationships/slide" Target="slide52.xml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74.xml"/><Relationship Id="rId3" Type="http://schemas.openxmlformats.org/officeDocument/2006/relationships/slide" Target="slide1.xml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slide" Target="slide51.xml"/><Relationship Id="rId7" Type="http://schemas.openxmlformats.org/officeDocument/2006/relationships/slide" Target="slide52.xml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65.xml"/><Relationship Id="rId8" Type="http://schemas.openxmlformats.org/officeDocument/2006/relationships/slide" Target="slide56.xml"/><Relationship Id="rId9" Type="http://schemas.openxmlformats.org/officeDocument/2006/relationships/slide" Target="slide56.xml"/><Relationship Id="rId10" Type="http://schemas.openxmlformats.org/officeDocument/2006/relationships/slide" Target="slide56.xml"/><Relationship Id="rId11" Type="http://schemas.openxmlformats.org/officeDocument/2006/relationships/slide" Target="slide54.xml"/><Relationship Id="rId12" Type="http://schemas.openxmlformats.org/officeDocument/2006/relationships/slide" Target="slide54.xml"/><Relationship Id="rId1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4.xml"/><Relationship Id="rId9" Type="http://schemas.openxmlformats.org/officeDocument/2006/relationships/slide" Target="slide55.xml"/><Relationship Id="rId10" Type="http://schemas.openxmlformats.org/officeDocument/2006/relationships/slide" Target="slide55.xml"/><Relationship Id="rId1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4.xml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62.xml"/><Relationship Id="rId3" Type="http://schemas.openxmlformats.org/officeDocument/2006/relationships/slide" Target="slide62.xml"/><Relationship Id="rId4" Type="http://schemas.openxmlformats.org/officeDocument/2006/relationships/slide" Target="slide1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51.xml"/><Relationship Id="rId8" Type="http://schemas.openxmlformats.org/officeDocument/2006/relationships/slide" Target="slide52.xml"/><Relationship Id="rId9" Type="http://schemas.openxmlformats.org/officeDocument/2006/relationships/slide" Target="slide53.xml"/><Relationship Id="rId10" Type="http://schemas.openxmlformats.org/officeDocument/2006/relationships/slide" Target="slide56.xml"/><Relationship Id="rId1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60.xml"/><Relationship Id="rId3" Type="http://schemas.openxmlformats.org/officeDocument/2006/relationships/slide" Target="slide58.xml"/><Relationship Id="rId4" Type="http://schemas.openxmlformats.org/officeDocument/2006/relationships/slide" Target="slide58.xml"/><Relationship Id="rId5" Type="http://schemas.openxmlformats.org/officeDocument/2006/relationships/slide" Target="slide61.xml"/><Relationship Id="rId6" Type="http://schemas.openxmlformats.org/officeDocument/2006/relationships/slide" Target="slide61.xml"/><Relationship Id="rId7" Type="http://schemas.openxmlformats.org/officeDocument/2006/relationships/slide" Target="slide61.xml"/><Relationship Id="rId8" Type="http://schemas.openxmlformats.org/officeDocument/2006/relationships/slide" Target="slide1.xml"/><Relationship Id="rId9" Type="http://schemas.openxmlformats.org/officeDocument/2006/relationships/slide" Target="slide49.xml"/><Relationship Id="rId10" Type="http://schemas.openxmlformats.org/officeDocument/2006/relationships/slide" Target="slide50.xml"/><Relationship Id="rId11" Type="http://schemas.openxmlformats.org/officeDocument/2006/relationships/slide" Target="slide51.xml"/><Relationship Id="rId12" Type="http://schemas.openxmlformats.org/officeDocument/2006/relationships/slide" Target="slide52.xml"/><Relationship Id="rId13" Type="http://schemas.openxmlformats.org/officeDocument/2006/relationships/slide" Target="slide53.xml"/><Relationship Id="rId14" Type="http://schemas.openxmlformats.org/officeDocument/2006/relationships/slide" Target="slide56.xml"/><Relationship Id="rId15" Type="http://schemas.openxmlformats.org/officeDocument/2006/relationships/slide" Target="slide57.xml"/><Relationship Id="rId1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4.xml"/><Relationship Id="rId3" Type="http://schemas.openxmlformats.org/officeDocument/2006/relationships/slide" Target="slide1.xml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slide" Target="slide51.xml"/><Relationship Id="rId7" Type="http://schemas.openxmlformats.org/officeDocument/2006/relationships/slide" Target="slide52.xml"/><Relationship Id="rId8" Type="http://schemas.openxmlformats.org/officeDocument/2006/relationships/slide" Target="slide53.xml"/><Relationship Id="rId9" Type="http://schemas.openxmlformats.org/officeDocument/2006/relationships/slide" Target="slide56.xml"/><Relationship Id="rId10" Type="http://schemas.openxmlformats.org/officeDocument/2006/relationships/slide" Target="slide62.xml"/><Relationship Id="rId11" Type="http://schemas.openxmlformats.org/officeDocument/2006/relationships/slide" Target="slide62.xml"/><Relationship Id="rId1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6.xml"/><Relationship Id="rId8" Type="http://schemas.openxmlformats.org/officeDocument/2006/relationships/slide" Target="slide62.xml"/><Relationship Id="rId9" Type="http://schemas.openxmlformats.org/officeDocument/2006/relationships/slide" Target="slide62.xml"/><Relationship Id="rId10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6.xml"/><Relationship Id="rId8" Type="http://schemas.openxmlformats.org/officeDocument/2006/relationships/slide" Target="slide62.xml"/><Relationship Id="rId9" Type="http://schemas.openxmlformats.org/officeDocument/2006/relationships/slide" Target="slide62.xml"/><Relationship Id="rId10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" Target="slide70.xml"/><Relationship Id="rId6" Type="http://schemas.openxmlformats.org/officeDocument/2006/relationships/slide" Target="slide70.xml"/><Relationship Id="rId7" Type="http://schemas.openxmlformats.org/officeDocument/2006/relationships/slide" Target="slide1.xml"/><Relationship Id="rId8" Type="http://schemas.openxmlformats.org/officeDocument/2006/relationships/slide" Target="slide49.xml"/><Relationship Id="rId9" Type="http://schemas.openxmlformats.org/officeDocument/2006/relationships/slide" Target="slide50.xml"/><Relationship Id="rId10" Type="http://schemas.openxmlformats.org/officeDocument/2006/relationships/slide" Target="slide51.xml"/><Relationship Id="rId11" Type="http://schemas.openxmlformats.org/officeDocument/2006/relationships/slide" Target="slide52.xml"/><Relationship Id="rId12" Type="http://schemas.openxmlformats.org/officeDocument/2006/relationships/slide" Target="slide53.xml"/><Relationship Id="rId13" Type="http://schemas.openxmlformats.org/officeDocument/2006/relationships/slide" Target="slide65.xml"/><Relationship Id="rId1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67.xml"/><Relationship Id="rId3" Type="http://schemas.openxmlformats.org/officeDocument/2006/relationships/slide" Target="slide67.xml"/><Relationship Id="rId4" Type="http://schemas.openxmlformats.org/officeDocument/2006/relationships/slide" Target="slide67.xml"/><Relationship Id="rId5" Type="http://schemas.openxmlformats.org/officeDocument/2006/relationships/slide" Target="slide1.xml"/><Relationship Id="rId6" Type="http://schemas.openxmlformats.org/officeDocument/2006/relationships/slide" Target="slide49.xml"/><Relationship Id="rId7" Type="http://schemas.openxmlformats.org/officeDocument/2006/relationships/slide" Target="slide50.xml"/><Relationship Id="rId8" Type="http://schemas.openxmlformats.org/officeDocument/2006/relationships/slide" Target="slide51.xml"/><Relationship Id="rId9" Type="http://schemas.openxmlformats.org/officeDocument/2006/relationships/slide" Target="slide52.xml"/><Relationship Id="rId10" Type="http://schemas.openxmlformats.org/officeDocument/2006/relationships/slide" Target="slide53.xml"/><Relationship Id="rId11" Type="http://schemas.openxmlformats.org/officeDocument/2006/relationships/slide" Target="slide65.xml"/><Relationship Id="rId12" Type="http://schemas.openxmlformats.org/officeDocument/2006/relationships/slide" Target="slide66.xml"/><Relationship Id="rId13" Type="http://schemas.openxmlformats.org/officeDocument/2006/relationships/slide" Target="slide66.xml"/><Relationship Id="rId1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slide" Target="slide69.xml"/><Relationship Id="rId4" Type="http://schemas.openxmlformats.org/officeDocument/2006/relationships/slide" Target="slide69.xml"/><Relationship Id="rId5" Type="http://schemas.openxmlformats.org/officeDocument/2006/relationships/slide" Target="slide1.xml"/><Relationship Id="rId6" Type="http://schemas.openxmlformats.org/officeDocument/2006/relationships/slide" Target="slide49.xml"/><Relationship Id="rId7" Type="http://schemas.openxmlformats.org/officeDocument/2006/relationships/slide" Target="slide50.xml"/><Relationship Id="rId8" Type="http://schemas.openxmlformats.org/officeDocument/2006/relationships/slide" Target="slide51.xml"/><Relationship Id="rId9" Type="http://schemas.openxmlformats.org/officeDocument/2006/relationships/slide" Target="slide52.xml"/><Relationship Id="rId10" Type="http://schemas.openxmlformats.org/officeDocument/2006/relationships/slide" Target="slide53.xml"/><Relationship Id="rId11" Type="http://schemas.openxmlformats.org/officeDocument/2006/relationships/slide" Target="slide65.xml"/><Relationship Id="rId12" Type="http://schemas.openxmlformats.org/officeDocument/2006/relationships/slide" Target="slide66.xml"/><Relationship Id="rId13" Type="http://schemas.openxmlformats.org/officeDocument/2006/relationships/slide" Target="slide66.xml"/><Relationship Id="rId14" Type="http://schemas.openxmlformats.org/officeDocument/2006/relationships/slide" Target="slide67.xml"/><Relationship Id="rId15" Type="http://schemas.openxmlformats.org/officeDocument/2006/relationships/slide" Target="slide67.xml"/><Relationship Id="rId16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65.xml"/><Relationship Id="rId8" Type="http://schemas.openxmlformats.org/officeDocument/2006/relationships/slide" Target="slide66.xml"/><Relationship Id="rId9" Type="http://schemas.openxmlformats.org/officeDocument/2006/relationships/slide" Target="slide66.xml"/><Relationship Id="rId10" Type="http://schemas.openxmlformats.org/officeDocument/2006/relationships/slide" Target="slide67.xml"/><Relationship Id="rId11" Type="http://schemas.openxmlformats.org/officeDocument/2006/relationships/slide" Target="slide67.xml"/><Relationship Id="rId1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65.xml"/><Relationship Id="rId8" Type="http://schemas.openxmlformats.org/officeDocument/2006/relationships/slide" Target="slide66.xml"/><Relationship Id="rId9" Type="http://schemas.openxmlformats.org/officeDocument/2006/relationships/slide" Target="slide66.xml"/><Relationship Id="rId10" Type="http://schemas.openxmlformats.org/officeDocument/2006/relationships/slide" Target="slide67.xml"/><Relationship Id="rId11" Type="http://schemas.openxmlformats.org/officeDocument/2006/relationships/slide" Target="slide67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65.xml"/><Relationship Id="rId8" Type="http://schemas.openxmlformats.org/officeDocument/2006/relationships/slide" Target="slide70.xml"/><Relationship Id="rId9" Type="http://schemas.openxmlformats.org/officeDocument/2006/relationships/slide" Target="slide70.xml"/><Relationship Id="rId10" Type="http://schemas.openxmlformats.org/officeDocument/2006/relationships/slide" Target="slide70.xml"/><Relationship Id="rId11" Type="http://schemas.openxmlformats.org/officeDocument/2006/relationships/slide" Target="slide73.xml"/><Relationship Id="rId12" Type="http://schemas.openxmlformats.org/officeDocument/2006/relationships/slide" Target="slide73.xml"/><Relationship Id="rId13" Type="http://schemas.openxmlformats.org/officeDocument/2006/relationships/slide" Target="slide72.xml"/><Relationship Id="rId14" Type="http://schemas.openxmlformats.org/officeDocument/2006/relationships/slide" Target="slide72.xml"/><Relationship Id="rId15" Type="http://schemas.openxmlformats.org/officeDocument/2006/relationships/slide" Target="slide72.xml"/><Relationship Id="rId16" Type="http://schemas.openxmlformats.org/officeDocument/2006/relationships/slide" Target="slide71.xml"/><Relationship Id="rId17" Type="http://schemas.openxmlformats.org/officeDocument/2006/relationships/slide" Target="slide71.xml"/><Relationship Id="rId18" Type="http://schemas.openxmlformats.org/officeDocument/2006/relationships/slide" Target="slide71.xml"/><Relationship Id="rId19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65.xml"/><Relationship Id="rId8" Type="http://schemas.openxmlformats.org/officeDocument/2006/relationships/slide" Target="slide70.xml"/><Relationship Id="rId9" Type="http://schemas.openxmlformats.org/officeDocument/2006/relationships/slide" Target="slide70.xml"/><Relationship Id="rId10" Type="http://schemas.openxmlformats.org/officeDocument/2006/relationships/slide" Target="slide70.xml"/><Relationship Id="rId1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65.xml"/><Relationship Id="rId8" Type="http://schemas.openxmlformats.org/officeDocument/2006/relationships/slide" Target="slide70.xml"/><Relationship Id="rId9" Type="http://schemas.openxmlformats.org/officeDocument/2006/relationships/slide" Target="slide70.xml"/><Relationship Id="rId10" Type="http://schemas.openxmlformats.org/officeDocument/2006/relationships/slide" Target="slide70.xml"/><Relationship Id="rId1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65.xml"/><Relationship Id="rId8" Type="http://schemas.openxmlformats.org/officeDocument/2006/relationships/slide" Target="slide70.xml"/><Relationship Id="rId9" Type="http://schemas.openxmlformats.org/officeDocument/2006/relationships/slide" Target="slide70.xml"/><Relationship Id="rId10" Type="http://schemas.openxmlformats.org/officeDocument/2006/relationships/slide" Target="slide70.xml"/><Relationship Id="rId1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75.xml"/><Relationship Id="rId3" Type="http://schemas.openxmlformats.org/officeDocument/2006/relationships/slide" Target="slide75.xml"/><Relationship Id="rId4" Type="http://schemas.openxmlformats.org/officeDocument/2006/relationships/slide" Target="slide1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51.xml"/><Relationship Id="rId8" Type="http://schemas.openxmlformats.org/officeDocument/2006/relationships/slide" Target="slide52.xml"/><Relationship Id="rId9" Type="http://schemas.openxmlformats.org/officeDocument/2006/relationships/slide" Target="slide74.xml"/><Relationship Id="rId10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" Target="slide74.xml"/><Relationship Id="rId7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 verfärb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8" idx="3"/>
            <a:endCxn id="102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farbloser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8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rauner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ötlicher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89920" y="54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 verfärb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2" idx="3"/>
            <a:endCxn id="16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6" name=""/>
          <p:cNvCxnSpPr>
            <a:stCxn id="162" idx="3"/>
            <a:endCxn id="16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2" idx="3"/>
            <a:endCxn id="167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0" name=""/>
          <p:cNvCxnSpPr>
            <a:stCxn id="162" idx="3"/>
            <a:endCxn id="168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3"/>
            <a:endCxn id="17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8" name=""/>
          <p:cNvCxnSpPr>
            <a:endCxn id="17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02680" y="549360"/>
            <a:ext cx="78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orwiegend 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3"/>
            <a:endCxn id="18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6" idx="3"/>
            <a:endCxn id="18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3"/>
            <a:endCxn id="19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5" name=""/>
          <p:cNvCxnSpPr>
            <a:stCxn id="192" idx="3"/>
            <a:endCxn id="19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3"/>
            <a:endCxn id="20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6" idx="3"/>
            <a:endCxn id="2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equestr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3"/>
            <a:endCxn id="21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5" idx="3"/>
            <a:endCxn id="21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21" idx="3"/>
            <a:endCxn id="22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95840" y="549360"/>
            <a:ext cx="76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ötlicher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at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mo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954000" y="5493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ötlicher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95840" y="549360"/>
            <a:ext cx="76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Mangel an 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5" idx="3"/>
            <a:endCxn id="22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0" name=""/>
          <p:cNvCxnSpPr>
            <a:endCxn id="22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95840" y="549360"/>
            <a:ext cx="76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Mangel an 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2" idx="3"/>
            <a:endCxn id="23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7" name=""/>
          <p:cNvCxnSpPr>
            <a:endCxn id="2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5840" y="549360"/>
            <a:ext cx="76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Mangel an 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3"/>
            <a:endCxn id="24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95840" y="549360"/>
            <a:ext cx="76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Mangel an 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4" idx="3"/>
            <a:endCxn id="24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5840" y="549360"/>
            <a:ext cx="76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Mangel an 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5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9560" y="549360"/>
            <a:ext cx="70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5" idx="3"/>
            <a:endCxn id="25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UT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olithia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gangszellkarzin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blut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mo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ämoglo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yoglo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3"/>
            <a:endCxn id="26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65" name=""/>
          <p:cNvCxnSpPr>
            <a:stCxn id="261" idx="3"/>
            <a:endCxn id="26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1044720" y="549360"/>
            <a:ext cx="52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Chromo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9" idx="3"/>
            <a:endCxn id="27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glo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16720" y="549360"/>
            <a:ext cx="71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Chromoprote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glo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ntravasal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549360"/>
            <a:ext cx="73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Chromoprote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glob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3" idx="3"/>
            <a:endCxn id="27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upferintoxi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dlington-Terrie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wendung e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lysmas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tungswa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abetischer Ketoazid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er Babes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640" y="615348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80" idx="3"/>
            <a:endCxn id="28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yoglo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16000" y="549360"/>
            <a:ext cx="70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Chromoprote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yoglobinuri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uskelzell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at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ontanur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3"/>
            <a:endCxn id="117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Zystozente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onn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86040" y="549360"/>
            <a:ext cx="44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at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zell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4" idx="3"/>
            <a:endCxn id="28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87" name=""/>
          <p:cNvCxnSpPr>
            <a:stCxn id="284" idx="3"/>
            <a:endCxn id="288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yos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15280" y="549360"/>
            <a:ext cx="72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Chromoprote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yoglobinuri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skelzell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nkelgelb b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rauner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07280" y="549360"/>
            <a:ext cx="46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iru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endCxn id="29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96" name=""/>
          <p:cNvCxnSpPr>
            <a:stCxn id="291" idx="3"/>
            <a:endCxn id="29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9" idx="3"/>
            <a:endCxn id="300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Wasserante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m Ur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72080" y="549360"/>
            <a:ext cx="64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unkelgelb bis braun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4" idx="3"/>
            <a:endCxn id="305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sserante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Ur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71360" y="549360"/>
            <a:ext cx="66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asseranteil im Ur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9" idx="3"/>
            <a:endCxn id="310" idx="1"/>
          </p:cNvCxnSpPr>
          <p:nvPr/>
        </p:nvCxnSpPr>
        <p:spPr>
          <a:xfrm flipV="1">
            <a:off x="3313080" y="3361680"/>
            <a:ext cx="2689920" cy="7196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1" name=""/>
          <p:cNvCxnSpPr>
            <a:stCxn id="309" idx="3"/>
            <a:endCxn id="31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1085040" y="549360"/>
            <a:ext cx="60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iru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2000" y="279864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+ bis ++ beim weib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und, + bis +++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ännl. Hu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2000" y="615348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weibl. = weiblich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männl. = männlich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irub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3"/>
            <a:endCxn id="318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9" name=""/>
          <p:cNvCxnSpPr>
            <a:stCxn id="316" idx="3"/>
            <a:endCxn id="32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16" idx="3"/>
            <a:endCxn id="321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84680" y="549360"/>
            <a:ext cx="62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unkelgelb bis braun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irub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bilirub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2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fall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84680" y="549360"/>
            <a:ext cx="62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unkelgelb bis braun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irubi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ä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fall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y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30" idx="3"/>
            <a:endCxn id="33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34" name=""/>
          <p:cNvCxnSpPr>
            <a:stCxn id="330" idx="3"/>
            <a:endCxn id="3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084680" y="549360"/>
            <a:ext cx="62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dunkelgelb bis braun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irubi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3"/>
            <a:endCxn id="33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40" name=""/>
          <p:cNvCxnSpPr>
            <a:stCxn id="337" idx="3"/>
            <a:endCxn id="341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en i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örperhöhlen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ato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0800" y="54936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irubi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48" name=""/>
          <p:cNvCxnSpPr>
            <a:stCxn id="344" idx="3"/>
            <a:endCxn id="34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1090800" y="54936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dunkelgelb bis braun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irubi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ontanur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schlecht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3"/>
            <a:endCxn id="12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5" name=""/>
          <p:cNvCxnSpPr>
            <a:stCxn id="121" idx="3"/>
            <a:endCxn id="12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1044000" y="54936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pontanur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90800" y="54936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irubi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oly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ex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51" idx="3"/>
            <a:endCxn id="35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bes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 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trophen Mykoplasm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90800" y="54936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irubi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glob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oly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in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6" idx="3"/>
            <a:endCxn id="3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upferintoxi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dlington-Terrie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wendung e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lysmas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tungswa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abetischer Ketoazid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er Babes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1640" y="6153480"/>
            <a:ext cx="19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3" idx="3"/>
            <a:endCxn id="36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yoglob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zell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44360" y="549360"/>
            <a:ext cx="706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irubi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rä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fall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bbau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yoglobi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7" idx="3"/>
            <a:endCxn id="36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71" name=""/>
          <p:cNvCxnSpPr>
            <a:stCxn id="367" idx="3"/>
            <a:endCxn id="36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1084680" y="549360"/>
            <a:ext cx="62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dunkelgelb bis braun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irub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84680" y="549360"/>
            <a:ext cx="62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irub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epa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4" idx="3"/>
            <a:endCxn id="37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portsyste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durch TNF-</a:t>
            </a:r>
            <a:r>
              <a:rPr b="0" lang="el-GR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α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9" idx="3"/>
            <a:endCxn id="382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83" name=""/>
          <p:cNvCxnSpPr>
            <a:stCxn id="379" idx="3"/>
            <a:endCxn id="38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ur Pferd und Ri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92600" y="549360"/>
            <a:ext cx="65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dunkelgelb bis braun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irubi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örung d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Bilirubintransport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7040" y="639684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TNF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= Tumornekrosefaktor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ansportsyste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durch TNF-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53640" y="54936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irubi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epatisch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epatozellul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ilirubintransport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törung des Transportsystems (durch TNF-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 ↑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7" idx="3"/>
            <a:endCxn id="39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chgradige 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Sepsis, FIP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5910120"/>
            <a:ext cx="307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TNF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= Tumornekrosefaktor-</a:t>
            </a:r>
            <a:r>
              <a:rPr b="0" lang="el-GR" sz="16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  <a:ea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  <a:ea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alleng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93" idx="3"/>
            <a:endCxn id="39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97" name=""/>
          <p:cNvCxnSpPr>
            <a:stCxn id="393" idx="3"/>
            <a:endCxn id="39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rup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84680" y="549360"/>
            <a:ext cx="62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unkelgelb bis braun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irub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osthepa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17800" y="549360"/>
            <a:ext cx="63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nkelgelb bis braun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irubi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bilirub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osthepatisch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allengangsobstr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angiohep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gangskarzin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tein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406" idx="3"/>
            <a:endCxn id="4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rbloser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47520" y="54936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chlechts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9560" y="549360"/>
            <a:ext cx="70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schlechtstrakt 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östrus (Hündin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uerperiu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äsion in der Vagina/Pen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yometr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stataabsze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aginal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icker-Sark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11" idx="3"/>
            <a:endCxn id="41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12320" y="549360"/>
            <a:ext cx="49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m Uri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6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16" idx="3"/>
            <a:endCxn id="41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1089000" y="549360"/>
            <a:ext cx="74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sserante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Ur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9120" y="63968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ei 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4" idx="3"/>
            <a:endCxn id="42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25" name=""/>
          <p:cNvCxnSpPr>
            <a:stCxn id="424" idx="3"/>
            <a:endCxn id="42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1088640" y="549360"/>
            <a:ext cx="76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ei 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i 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8640" y="549360"/>
            <a:ext cx="76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29" idx="3"/>
            <a:endCxn id="43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33" name=""/>
          <p:cNvCxnSpPr>
            <a:stCxn id="429" idx="3"/>
            <a:endCxn id="43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88640" y="549360"/>
            <a:ext cx="76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unktionsverlust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9" idx="3"/>
            <a:endCxn id="44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44" name=""/>
          <p:cNvCxnSpPr>
            <a:stCxn id="439" idx="3"/>
            <a:endCxn id="445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unktionsverlust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n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49" idx="3"/>
            <a:endCxn id="45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sch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3" idx="3"/>
            <a:endCxn id="45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57" name=""/>
          <p:cNvCxnSpPr>
            <a:stCxn id="453" idx="3"/>
            <a:endCxn id="45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1088640" y="549360"/>
            <a:ext cx="76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Einfluss von osmotisch wirksamen 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61" idx="3"/>
            <a:endCxn id="46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65" name=""/>
          <p:cNvCxnSpPr>
            <a:stCxn id="461" idx="3"/>
            <a:endCxn id="46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1" idx="3"/>
            <a:endCxn id="466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69" name=""/>
          <p:cNvCxnSpPr>
            <a:stCxn id="461" idx="3"/>
            <a:endCxn id="467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lukose 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73" idx="3"/>
            <a:endCxn id="47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mellit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nconi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s Tubulusepithe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durch Nephrotoxin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9" idx="3"/>
            <a:endCxn id="48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-obstruktive Diure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nach FLUT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4520" y="5692320"/>
            <a:ext cx="428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okale 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3"/>
            <a:endCxn id="13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7" name=""/>
          <p:cNvCxnSpPr>
            <a:stCxn id="133" idx="3"/>
            <a:endCxn id="1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1069560" y="549360"/>
            <a:ext cx="70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arntrakt stamm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5" idx="3"/>
            <a:endCxn id="48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osmotisch wirksame 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1" idx="3"/>
            <a:endCxn id="49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Mannit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3"/>
            <a:endCxn id="49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01" name=""/>
          <p:cNvCxnSpPr>
            <a:stCxn id="497" idx="3"/>
            <a:endCxn id="49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1095120" y="549360"/>
            <a:ext cx="782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Nierenmark 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95120" y="549360"/>
            <a:ext cx="782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505" idx="3"/>
            <a:endCxn id="50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stö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095120" y="549360"/>
            <a:ext cx="782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1" idx="3"/>
            <a:endCxn id="51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armes Futt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7" idx="3"/>
            <a:endCxn id="51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21" name=""/>
          <p:cNvCxnSpPr>
            <a:stCxn id="517" idx="3"/>
            <a:endCxn id="51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088640" y="549360"/>
            <a:ext cx="76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5" idx="3"/>
            <a:endCxn id="52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29" name=""/>
          <p:cNvCxnSpPr>
            <a:stCxn id="525" idx="3"/>
            <a:endCxn id="52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88640" y="549360"/>
            <a:ext cx="76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H-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2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Freisetz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3" idx="3"/>
            <a:endCxn id="53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37" name=""/>
          <p:cNvCxnSpPr>
            <a:stCxn id="533" idx="3"/>
            <a:endCxn id="5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sekundärer 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ekundärer 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DH-Bildu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1" idx="3"/>
            <a:endCxn id="54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Freisetz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ekundärer 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DH-Freisetzu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7" idx="3"/>
            <a:endCxn id="55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Alkoh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0" idx="3"/>
            <a:endCxn id="14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4" name=""/>
          <p:cNvCxnSpPr>
            <a:stCxn id="140" idx="3"/>
            <a:endCxn id="14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1069560" y="549360"/>
            <a:ext cx="70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törung der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3" idx="3"/>
            <a:endCxn id="556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57" name=""/>
          <p:cNvCxnSpPr>
            <a:stCxn id="553" idx="3"/>
            <a:endCxn id="55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53" idx="3"/>
            <a:endCxn id="559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55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kompetitiv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7" action="ppaction://hlinksldjump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8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ngeborener Mangel/Fehlfunktion der 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3" idx="3"/>
            <a:endCxn id="56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kompetitive Hemmung 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9" idx="3"/>
            <a:endCxn id="57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7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cherichia-coli-Toxin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Koffei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8640" y="549360"/>
            <a:ext cx="76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 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Zerstörung der 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5" idx="3"/>
            <a:endCxn id="57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1" idx="3"/>
            <a:endCxn id="58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85" name=""/>
          <p:cNvCxnSpPr>
            <a:stCxn id="581" idx="3"/>
            <a:endCxn id="58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ych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ur Hu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88640" y="549360"/>
            <a:ext cx="76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9" idx="3"/>
            <a:endCxn id="59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93" name=""/>
          <p:cNvCxnSpPr>
            <a:stCxn id="589" idx="3"/>
            <a:endCxn id="59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594" name=""/>
          <p:cNvSpPr/>
          <p:nvPr/>
        </p:nvSpPr>
        <p:spPr>
          <a:xfrm>
            <a:off x="1088640" y="549360"/>
            <a:ext cx="76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arblos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Beeinflussung des 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7000" y="549360"/>
            <a:ext cx="81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 verfärbt &gt; farbloser Harn &gt; Hyposthenurie &gt; Wasseranteil im Urin ↑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ei PD/PU &gt; primäre PD &gt; Beeinflussung des Durstzentrums &gt; 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599" name=""/>
          <p:cNvCxnSpPr>
            <a:stCxn id="597" idx="3"/>
            <a:endCxn id="60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60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7000" y="549360"/>
            <a:ext cx="81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 verfärbt &gt; farbloser Harn &gt; Hyposthenurie &gt; Wasseranteil im Urin ↑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ei PD/PU &gt; primäre PD &gt; Beeinflussung des Durstzentrums &gt; 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3" idx="3"/>
            <a:endCxn id="60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mmo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i Leberinsuffizienz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7" idx="3"/>
            <a:endCxn id="149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0" name=""/>
          <p:cNvCxnSpPr>
            <a:stCxn id="147" idx="3"/>
            <a:endCxn id="15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3"/>
            <a:endCxn id="152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89000" y="549360"/>
            <a:ext cx="733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 verfärb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ötlicher Har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at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pontanuri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 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trakt stamm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4:10:29Z</dcterms:modified>
  <cp:revision>330</cp:revision>
  <dc:subject/>
  <dc:title>Vorstellung einer Neuheit</dc:title>
</cp:coreProperties>
</file>